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FA43F-9CC2-4224-9DC8-D7C63F34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F5C82-3EA7-4CC2-A268-4460253B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1A85-FBCB-4110-B670-ABA1F019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AC95-9044-4918-9D79-C7CF9955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8230-52AC-4056-B97E-8CCA796A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C55A-0C0E-4157-B2EE-BA07C088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DA47-7D4F-40A7-A1F1-F9587190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F8BD-7C7C-41B7-94E5-401621F7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7E1D-1FE9-43D8-BF5E-9082E14B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7BF2-D35D-4CFF-A0A6-32B2943E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9300-2C60-49C6-A936-A074FC0A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67B68-AE77-4289-861A-868AAC86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9B8B-6BE4-4C73-B153-BF1B6708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6CA6-5251-419F-BE6C-C0462189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827E-06E1-45A8-8307-6D70D981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7D23-05AF-4B7F-9406-90CACD53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2F49-8E4E-4574-A2F7-8314B69F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BB6DE-94C7-4C4A-B8A2-3742050C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3B5D-138C-432F-933C-09894319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9E363-8E8C-46B8-BFAA-14F8CCDE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61C60-3D9E-4C65-930D-5A87FEFA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EF84D-3A52-4DBF-B16B-C23FCBC5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2C34A-E7DF-4979-9B42-C6942B78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2121D-10A3-4AF1-9705-6DFC7A73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099E-D9A8-40AF-B589-1FABACF5C0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C91E-D6CB-4E54-9D51-F8BD4C32E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Column Transposition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ranspo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3920" y="1936800"/>
            <a:ext cx="829332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 three tasks involved in breaking a column transposition ciph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possible rectangle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correct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column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E0472-F1CB-47C5-846E-6BC6AC1446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Rect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rst step in analyzing a column transposition is determining the number of colum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completely filled transposition, the number of characters is the product of the number of rows and the number of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factor the number of characters to determine possible row and column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CC304-4BDF-4251-83EA-885DC7AF2A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Rectang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factors only supply possible column sizes - test each possibility by doing a vowel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line of plaintext should contain about 40% vow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count the vowels in each row of each possible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with the best match to 40% is the best choice for the actual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F6B50-58EE-4D9F-8CD1-C5C5868C78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Aff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4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rectangle size is determined, the column order must be dis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 is taken of all the characteristics of the plaintext langua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in all languages there are certain letters usually of medium or low frequency which combine with other letters to form diagrams of high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(medium frequency) combines with T to form TH (highest frequ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combines with C (medium frequency) to form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(low frequency) combines with E to form VE (medium frequency in military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7BB3F-7B1B-4429-A1C1-5C98249AD1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re is an H, attempts should be made to combine it with a T or a 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V should be combined first with an 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K should be combined first with a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DFA3-3AD7-4CA4-B37C-DDAA72114D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Le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, there is usually in every language at least one letter which can be followed by only certain other letters form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ory sequ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ariable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is always followed by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can only be followed by a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can be preceded only by a vowel and except at the end of a word can only be succeeded by a vowel or C, H, P, 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such as these with limited affinity are called pilo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21DE9-8268-40CF-A258-5D1D6D2764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36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Size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9000" y="1464840"/>
            <a:ext cx="7627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will determine both possible column sizes and run a vowel analysis of each colum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41280" y="2478240"/>
            <a:ext cx="1060560" cy="4379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683160" y="2276640"/>
            <a:ext cx="5263920" cy="4452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52360" y="3457440"/>
            <a:ext cx="1257480" cy="6192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984D4-3BB8-4869-89B8-1FC993F5A0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2920" y="26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gramming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5440" y="1336680"/>
            <a:ext cx="7240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provides a tool to aid in the anagramm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27000" y="2243160"/>
            <a:ext cx="1117800" cy="4614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400480" y="2638440"/>
            <a:ext cx="6591240" cy="3835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87400" y="3909960"/>
            <a:ext cx="1257480" cy="5238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EBBF3-6321-44AA-BD8F-9C2ACD65B0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9T01:47:44Z</dcterms:modified>
  <cp:revision>69</cp:revision>
  <dc:subject/>
  <dc:title>CAP Cryptographic Analysis Program</dc:title>
</cp:coreProperties>
</file>